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DB87-9EEE-4592-9B6D-80030504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63E6-DA8B-48AF-826E-86C8742C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D3B9-3312-4BA5-891F-9932324A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2258-9F72-4988-9CF4-DA733875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427-CB61-40DE-AE5F-5BA52B7E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B4B3-BFF1-4541-9438-7E18BA97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8ACE-6871-46ED-82EA-17B3C192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CE69-714D-48B3-B175-619CB20C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ADE6-D328-4F56-8438-C4B3237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903F-52D3-40EB-ABC4-80C76667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6C5D-2464-4C3D-858D-E588ED5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B6EB-612E-4E9D-B86A-7952945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40B2-7C2F-4127-BB58-754E1E0D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1921-E168-4E13-AC31-6B64AAC2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9514-774F-4042-B0B5-7AE068CA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58EE-4FE0-4DD6-B688-F5CE5BDE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DF9C-A11A-4790-9C8C-0800085E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412F-7B2D-4F77-8347-7A0AC576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9086-9003-4AD7-90FD-F9326B94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55CA0-6530-4BE0-90B1-CE9F27D3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3492-9795-4FA0-8844-EEA7D189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E3A1-EDD2-40D2-AE3C-9DF1ADD9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541E-1202-483C-841D-9262D240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8D0C-2DF3-40A2-80B0-1F27EC10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C39-5ECC-4AFB-8235-DAEB20F35A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65D-C806-4E13-A2F1-A43EFA2F4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etours.com.au/" TargetMode="External"/><Relationship Id="rId3" Type="http://schemas.openxmlformats.org/officeDocument/2006/relationships/hyperlink" Target="mailto:get@getours.com.au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ORGANISING AN OVERSEAS LANGUAGE TOUR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2923920"/>
            <a:ext cx="64008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Living Lessons since 196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8" descr="headerLogo"/>
          <p:cNvPicPr/>
          <p:nvPr/>
        </p:nvPicPr>
        <p:blipFill>
          <a:blip r:embed="rId1"/>
          <a:stretch/>
        </p:blipFill>
        <p:spPr>
          <a:xfrm>
            <a:off x="3348000" y="3645000"/>
            <a:ext cx="26049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The G.E.T. Advant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ducational Tours Speciali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derstand and respond to the needs of Australian sch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tend &amp; present at information sessions as requi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fessional service and personal atten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derstand and respond to the unique demands of specialised group travel arrang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ll established reputable company with nearly 50 years experience in organising Educational Tou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gistered Australian travel agent – IATA, AF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uge selection of finely planned itineraries – or create your ow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Ongoing Support, prior to, during and on return from your to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40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Some Recent Study Tou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4" descr="group at airport"/>
          <p:cNvPicPr/>
          <p:nvPr/>
        </p:nvPicPr>
        <p:blipFill>
          <a:blip r:embed="rId1"/>
          <a:stretch/>
        </p:blipFill>
        <p:spPr>
          <a:xfrm>
            <a:off x="324000" y="1268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tudent at xmas market"/>
          <p:cNvPicPr/>
          <p:nvPr/>
        </p:nvPicPr>
        <p:blipFill>
          <a:blip r:embed="rId2"/>
          <a:stretch/>
        </p:blipFill>
        <p:spPr>
          <a:xfrm>
            <a:off x="250920" y="4149720"/>
            <a:ext cx="3529080" cy="253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student at farewell party"/>
          <p:cNvPicPr/>
          <p:nvPr/>
        </p:nvPicPr>
        <p:blipFill>
          <a:blip r:embed="rId3"/>
          <a:stretch/>
        </p:blipFill>
        <p:spPr>
          <a:xfrm>
            <a:off x="4932360" y="4095720"/>
            <a:ext cx="367200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group at berlin wall 2"/>
          <p:cNvPicPr/>
          <p:nvPr/>
        </p:nvPicPr>
        <p:blipFill>
          <a:blip r:embed="rId4"/>
          <a:stretch/>
        </p:blipFill>
        <p:spPr>
          <a:xfrm>
            <a:off x="4932360" y="126828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otos of our destin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11" descr="tour-effeilsmaller"/>
          <p:cNvPicPr/>
          <p:nvPr/>
        </p:nvPicPr>
        <p:blipFill>
          <a:blip r:embed="rId1"/>
          <a:stretch/>
        </p:blipFill>
        <p:spPr>
          <a:xfrm>
            <a:off x="457200" y="2336760"/>
            <a:ext cx="4038480" cy="305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AmadeeLighthouse"/>
          <p:cNvPicPr/>
          <p:nvPr/>
        </p:nvPicPr>
        <p:blipFill>
          <a:blip r:embed="rId2"/>
          <a:stretch/>
        </p:blipFill>
        <p:spPr>
          <a:xfrm>
            <a:off x="4648320" y="1695600"/>
            <a:ext cx="4038480" cy="1995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Tea Ceremony Room Kanzawa"/>
          <p:cNvPicPr/>
          <p:nvPr/>
        </p:nvPicPr>
        <p:blipFill>
          <a:blip r:embed="rId3"/>
          <a:stretch/>
        </p:blipFill>
        <p:spPr>
          <a:xfrm>
            <a:off x="5846760" y="3938760"/>
            <a:ext cx="1639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Have you considered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Language / Music Tour Combin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Language / History Tour Combi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Language / Sporting Tour Combi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By combining two faculties you are able to widen your pool of prospective students and offer wonderful opportunities and itinerary sugges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Picture 4" descr="headerLogo"/>
          <p:cNvPicPr/>
          <p:nvPr/>
        </p:nvPicPr>
        <p:blipFill>
          <a:blip r:embed="rId1"/>
          <a:stretch/>
        </p:blipFill>
        <p:spPr>
          <a:xfrm>
            <a:off x="3276720" y="1413000"/>
            <a:ext cx="3025800" cy="2922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332000" y="4724280"/>
            <a:ext cx="69850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getours.com.au</a:t>
            </a: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Ph: 02 8088 331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Fax: 02 9221 254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en-A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get@getours.com.au</a:t>
            </a:r>
            <a:r>
              <a:rPr b="1" lang="en-A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Finding a reputable travel compan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7040" y="2491920"/>
            <a:ext cx="7929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Established in 196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ustralia’s largest and most experienced school tour operat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Head office in Melbour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ales Offices in Sydney, Brisbane, Townsville and Wellingt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le business is school group tra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Offer tried and tested brochure programs or tailor made itineraries and assistance to suit school’s specific aims and objecti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21956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Language Tour Destin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apa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ew Caledon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a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union Islan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lays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et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ore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ee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ain/South Amer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rma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a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urke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4" descr="headerLogo"/>
          <p:cNvPicPr/>
          <p:nvPr/>
        </p:nvPicPr>
        <p:blipFill>
          <a:blip r:embed="rId1"/>
          <a:stretch/>
        </p:blipFill>
        <p:spPr>
          <a:xfrm>
            <a:off x="5508720" y="2060640"/>
            <a:ext cx="3181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28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hilosophy of Language tou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extend the classroom into the environment being studied and to offer studen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periences beyond the conventional tourist dimens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.E.T’s philosophy - “Living Lessons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grammes are designed around Australian Curricul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y of our staff are ex teachers – understand unique learning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aching and learning programs for New Cal, other destinations to follo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7636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Benefits of International Touring and Immersion for Language stud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hance students’ communication skill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in knowledge &amp; understanding about family life, school life, general history, housing, food and table manners in a different cul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ather authentic materials and resourc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stand more about Australia after experiencing a different cultu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courages a sense of responsibility by taking care of themselves and their belongings, and by working together as a tea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ves students an experience of life in a foreign language culture and to foster their appreciation of i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elop students’ abilities in reading and writing in a foreign language (eg. Signs, menus, direction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pose our students to the richness of other traditions and cultur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ve our students the challenge of organising themselves for and experiencing overseas trave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G.E.T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Competitive Airfare quo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Itinerary Planning and Boo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Homestay co-ordination and plac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Accommodation choices (hostel – 3 star hot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Coach char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Rail passes or point to point ticke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Sightseeing / guided to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Language Less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69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Complimentary servi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In addition to those services – the following are also inclu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Information nights at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ssistance with risk assess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Group departures at Sydney air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24 hour emergency contact numbers while overse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Follow up tour 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6" descr="headerLogo"/>
          <p:cNvPicPr/>
          <p:nvPr/>
        </p:nvPicPr>
        <p:blipFill>
          <a:blip r:embed="rId1"/>
          <a:stretch/>
        </p:blipFill>
        <p:spPr>
          <a:xfrm>
            <a:off x="0" y="0"/>
            <a:ext cx="140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Steps for Organising an International Study Tou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1. CONTACT G.E.T. FOR QUOTE / ITINERA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act G.E.T. to gain an accurate quote for your proposed tour and itinera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2. THE FIRST MEETING WITH SCHOOL ADM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range a meeting with school administration to discuss your proposal and plans for a study tour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3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3. THE FIRST MEETING WITH STUD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ll a meeting of interested students and provide them with a letter for parents outlining the objectives of the tour, anticipated dates, approximate costs and advantages of the tour. Include a tear-off response sheet to return as an expression of interest and seeking further detail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4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4. A PARENT/STUDENT/TEACHER MEE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sufficient interest is shown organise an evening. G.E.T. can supply a powerpoint of a recent school excursion to the destination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5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5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DGE DEPOSIT WITH G.E.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 deposit is necessary so that tour arrangements may be confirmed with carriers, accommodation houses etc. An invoice will be sent for amount with payment deadline quoted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Steps for Organising an International Study Tou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6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6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ALANCE OF PAY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nd a letter of receipt to parents, and outline a schedule for balance of payments based on deadline for final payment advised by G.E.T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7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7. FINAL PAY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nal payment invoice will be sent to you with a deadline 65 days prior to date of travel. With this payment it will be necessary for us to receive a full names list of passengers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8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8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FINAL MEE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ld another information session for parents to discuss the finer details of the tour, spending money, accommodation, packing suggestions, meeting times, etc.,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9)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EP 9.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DEPAR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n day of departure a G.E.T. representative will be at the airport to co-ordinate check-in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21:44:34Z</dcterms:created>
  <dc:creator>mathew</dc:creator>
  <dc:description/>
  <dc:language>en-US</dc:language>
  <cp:lastModifiedBy>Kate Keily</cp:lastModifiedBy>
  <dcterms:modified xsi:type="dcterms:W3CDTF">2011-08-02T00:38:47Z</dcterms:modified>
  <cp:revision>23</cp:revision>
  <dc:subject/>
  <dc:title>G.E.T. EDUCATIONAL TOURS</dc:title>
</cp:coreProperties>
</file>